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3B1D-0E67-4BDD-A117-08566776A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624E-5140-46DD-85CA-5FECBB4E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96F3-E2C7-4A30-B5FA-256B5538C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6737-9798-447A-AEC8-528D1E834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B743-93AC-4E15-8FF8-41D5C354A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576D-4825-4B46-9450-6B26401C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C855-3003-4B28-A436-7768AC8D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1234-2928-4DA0-9EC5-61A14366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AFDA-4975-4211-B496-295BA49B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C537-A34A-4AA3-A13F-0EDAFE9D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03BF-EE86-43CC-80D6-A93EDAE4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459D-A4CD-4EA7-ABA9-2968EB06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9E8B-F105-4C15-8648-BFF63835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174B-3954-4279-BD90-3BFA4197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CE23-1303-4F74-AAB1-A1DEF6B4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BCC6-0674-43E2-AEBD-43A0C4D0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614D-E755-4409-A58A-2BECC445E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4E91-722A-4FB7-8B10-C256CA4D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454A-BF39-44EB-9343-266C6FAA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6A82-D88C-4330-9559-7CD9AFDF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E4BC-8208-45BA-A2A8-FC2390D2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17BB-C069-4FF4-B67F-C88B4BE7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7C82-EE5F-427A-A1E7-CC1045D3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58EF-0C4D-49D5-B0B2-0BEE0985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D853-F2CB-4A9A-8077-9EDF6819FB7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2127-37A6-4218-A068-7D497323AB9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ОД И ПЛАНОВЫЙ ПЕРИОД 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-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14:14Z</dcterms:modified>
  <cp:revision>45</cp:revision>
  <dc:subject/>
  <dc:title>Структура собственных доходов на 2016 год бюджета Дальнереченского городского округа</dc:title>
</cp:coreProperties>
</file>